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D3D-D380-441D-BE32-74B5D674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E38-742B-4F17-AD5F-F4CB3E11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31C-0359-440B-BFA0-A2226FD3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028-F3DF-46D4-9286-5A73C2F9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DC5-5E03-4582-A108-6237FF56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A5E-C7CE-4BEB-8D69-E3115EE0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9E7-8589-48C5-A053-17C7208C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4C1D-002F-46BD-8560-13D8670D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489-92EF-4562-B893-B865C721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C2C1-F97B-4919-A4A0-5E6AB32F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E16-D4EC-4B1A-811D-1D5F5C5C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2F0-1FCE-42BB-B7B6-9542FBA0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BDFF-8B59-4248-BB26-5F16FF4BD1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2160" y="1447920"/>
            <a:ext cx="630252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Probabilitie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Sensitivity a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Specificit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620120" cy="4876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762120"/>
            <a:ext cx="7597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925040" cy="3209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7925040" cy="2133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0200" y="4114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59436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925040" cy="3209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7925040" cy="507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295280" y="4724280"/>
            <a:ext cx="62485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925040" cy="3209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7925040" cy="380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>
            <a:off x="5486040" y="41148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95280" y="4648320"/>
            <a:ext cx="60962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3209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7924680" cy="685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086600" y="41148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62120" y="4495680"/>
            <a:ext cx="784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7772400" cy="3048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77724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86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5410080"/>
            <a:ext cx="23623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153640" cy="5791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10280" y="5943600"/>
            <a:ext cx="1752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2286000"/>
            <a:ext cx="289584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16:38:23Z</dcterms:modified>
  <cp:revision>215</cp:revision>
  <dc:subject/>
  <dc:title>Slide 1</dc:title>
</cp:coreProperties>
</file>